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1B8-EC54-44EA-99F9-69FC8C53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005B-2191-407D-A955-11E59F66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566-A3CE-4E79-9BFE-F3EAAF5C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C94-BB48-47E9-9A63-A5F956DF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0C4-A243-4A34-9D29-AB0547C5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2DD-16F0-4AD4-AB89-8B85D7FC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35C-75E8-4738-AFF7-CC521E43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51D-DFD3-4D58-A595-5F670919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834-A01C-423C-8256-D089F3A0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1E9-7F2B-4448-B7CD-9DB20F41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B77-674A-4E37-A48D-BBB6D49B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763-DA46-486E-9334-D29E5D28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2621-0DA5-4139-B639-D78D223251F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0E18-EB3F-43AE-BEF0-4BD26EE1BE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1"/>
          <a:stretch/>
        </p:blipFill>
        <p:spPr>
          <a:xfrm>
            <a:off x="712800" y="360360"/>
            <a:ext cx="793116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2"/>
          <a:stretch/>
        </p:blipFill>
        <p:spPr>
          <a:xfrm>
            <a:off x="1316160" y="2189160"/>
            <a:ext cx="6767280" cy="1498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479840" y="4673520"/>
            <a:ext cx="41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бибрахманова Л.Ф., главный специалист по работе с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1"/>
          <p:cNvSpPr/>
          <p:nvPr/>
        </p:nvSpPr>
        <p:spPr>
          <a:xfrm>
            <a:off x="826920" y="6356520"/>
            <a:ext cx="770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DD05-933A-4BA7-AD24-711A2CF6D8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мои 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1"/>
          <p:cNvSpPr/>
          <p:nvPr/>
        </p:nvSpPr>
        <p:spPr>
          <a:xfrm>
            <a:off x="900000" y="6356520"/>
            <a:ext cx="73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D761-2E4C-40D8-B6F4-21042A30B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бала"/>
          <p:cNvPicPr/>
          <p:nvPr/>
        </p:nvPicPr>
        <p:blipFill>
          <a:blip r:embed="rId1"/>
          <a:stretch/>
        </p:blipFill>
        <p:spPr>
          <a:xfrm>
            <a:off x="1371600" y="0"/>
            <a:ext cx="7086600" cy="678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72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30621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Picture 5" descr="1033"/>
          <p:cNvPicPr/>
          <p:nvPr/>
        </p:nvPicPr>
        <p:blipFill>
          <a:blip r:embed="rId2"/>
          <a:stretch/>
        </p:blipFill>
        <p:spPr>
          <a:xfrm>
            <a:off x="5173560" y="152280"/>
            <a:ext cx="377676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6" descr="67"/>
          <p:cNvPicPr/>
          <p:nvPr/>
        </p:nvPicPr>
        <p:blipFill>
          <a:blip r:embed="rId3"/>
          <a:stretch/>
        </p:blipFill>
        <p:spPr>
          <a:xfrm>
            <a:off x="1403280" y="2565360"/>
            <a:ext cx="4343400" cy="3987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7" descr="333151"/>
          <p:cNvPicPr/>
          <p:nvPr/>
        </p:nvPicPr>
        <p:blipFill>
          <a:blip r:embed="rId4"/>
          <a:stretch/>
        </p:blipFill>
        <p:spPr>
          <a:xfrm>
            <a:off x="5521320" y="3645000"/>
            <a:ext cx="3429000" cy="22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81"/>
          <p:cNvPicPr/>
          <p:nvPr/>
        </p:nvPicPr>
        <p:blipFill>
          <a:blip r:embed="rId1"/>
          <a:stretch/>
        </p:blipFill>
        <p:spPr>
          <a:xfrm>
            <a:off x="250920" y="260280"/>
            <a:ext cx="5184720" cy="21160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5" descr="2611"/>
          <p:cNvPicPr/>
          <p:nvPr/>
        </p:nvPicPr>
        <p:blipFill>
          <a:blip r:embed="rId2"/>
          <a:stretch/>
        </p:blipFill>
        <p:spPr>
          <a:xfrm>
            <a:off x="3962520" y="2647800"/>
            <a:ext cx="4767120" cy="37339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7" descr="287801"/>
          <p:cNvPicPr/>
          <p:nvPr/>
        </p:nvPicPr>
        <p:blipFill>
          <a:blip r:embed="rId3"/>
          <a:stretch/>
        </p:blipFill>
        <p:spPr>
          <a:xfrm>
            <a:off x="250920" y="3357720"/>
            <a:ext cx="3504960" cy="26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2CF9-0748-4DE0-A235-FB7E76092C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49280" y="12016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ршенствование системы работы по сохранению и укреплению здоровья детей, формирование культуры ЗО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ое сопровождение реализации республиканского проекта по обучению двум государственным языкам детей дошкольного возраста согласно нового УМК в рамках психолого-педагогического процесса в ДОУ в соответствии с ФГТ и переходом на ФГОС 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е преемственности в работе ДОУ и начальной школой в соответствии с ФГТ и ФГОС Н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коррекционно-образовательного процесса, реализация механизмов обеспечения доступности дошкольного образования для детей с ОВ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тизация дошкольного образования в рамках реализации проекта «Электронный детский сад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педагогической компетенции родителей в вопросах воспитания детей раннего и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тегорийного уровня педагогических работников ДО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1"/>
          <p:cNvSpPr/>
          <p:nvPr/>
        </p:nvSpPr>
        <p:spPr>
          <a:xfrm>
            <a:off x="1928880" y="6356520"/>
            <a:ext cx="585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BD35-6E69-4F55-B73F-7A940D57C1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219240" y="2951280"/>
            <a:ext cx="88516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ижний колонтитул 3"/>
          <p:cNvSpPr/>
          <p:nvPr/>
        </p:nvSpPr>
        <p:spPr>
          <a:xfrm>
            <a:off x="2071800" y="6215040"/>
            <a:ext cx="528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BD7B-B9F0-4FB3-85C8-506A6E45074C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1560600" cy="2870280"/>
          </a:xfrm>
          <a:prstGeom prst="rect">
            <a:avLst/>
          </a:prstGeom>
          <a:ln w="0">
            <a:noFill/>
          </a:ln>
        </p:spPr>
      </p:pic>
      <p:pic>
        <p:nvPicPr>
          <p:cNvPr id="47" name="Схема 8" descr=""/>
          <p:cNvPicPr/>
          <p:nvPr/>
        </p:nvPicPr>
        <p:blipFill>
          <a:blip r:embed="rId2"/>
          <a:stretch/>
        </p:blipFill>
        <p:spPr>
          <a:xfrm>
            <a:off x="311040" y="738360"/>
            <a:ext cx="8570880" cy="5046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2"/>
          <p:cNvSpPr/>
          <p:nvPr/>
        </p:nvSpPr>
        <p:spPr>
          <a:xfrm>
            <a:off x="461880" y="5699520"/>
            <a:ext cx="820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хват дошкольным образованием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т 2 до 7 лет составляет  82,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4"/>
          <p:cNvSpPr/>
          <p:nvPr/>
        </p:nvSpPr>
        <p:spPr>
          <a:xfrm>
            <a:off x="1643040" y="6357960"/>
            <a:ext cx="621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ния Исполнительного комитета муниципального образования Советского района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6044-7524-4154-8E10-79A44AD5C97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хема 6" descr=""/>
          <p:cNvPicPr/>
          <p:nvPr/>
        </p:nvPicPr>
        <p:blipFill>
          <a:blip r:embed="rId1"/>
          <a:stretch/>
        </p:blipFill>
        <p:spPr>
          <a:xfrm>
            <a:off x="658800" y="1395360"/>
            <a:ext cx="7991640" cy="47196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500040" y="324000"/>
            <a:ext cx="825984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1"/>
          <p:cNvSpPr/>
          <p:nvPr/>
        </p:nvSpPr>
        <p:spPr>
          <a:xfrm>
            <a:off x="2428920" y="6286680"/>
            <a:ext cx="5091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7E38-1F1E-4608-9EEF-745BAD487D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8" descr=""/>
          <p:cNvPicPr/>
          <p:nvPr/>
        </p:nvPicPr>
        <p:blipFill>
          <a:blip r:embed="rId1"/>
          <a:stretch/>
        </p:blipFill>
        <p:spPr>
          <a:xfrm>
            <a:off x="1847880" y="1149480"/>
            <a:ext cx="5819760" cy="355428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639720" y="262080"/>
            <a:ext cx="8229600" cy="87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03635"/>
          <p:cNvPicPr/>
          <p:nvPr/>
        </p:nvPicPr>
        <p:blipFill>
          <a:blip r:embed="rId3"/>
          <a:stretch/>
        </p:blipFill>
        <p:spPr>
          <a:xfrm>
            <a:off x="5724360" y="4592520"/>
            <a:ext cx="3276720" cy="218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7" descr="201669"/>
          <p:cNvPicPr/>
          <p:nvPr/>
        </p:nvPicPr>
        <p:blipFill>
          <a:blip r:embed="rId4"/>
          <a:stretch/>
        </p:blipFill>
        <p:spPr>
          <a:xfrm>
            <a:off x="250920" y="4635360"/>
            <a:ext cx="3124080" cy="207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1"/>
          <p:cNvSpPr/>
          <p:nvPr/>
        </p:nvSpPr>
        <p:spPr>
          <a:xfrm>
            <a:off x="2357280" y="6416640"/>
            <a:ext cx="507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9DB5-DDF6-453E-AC1D-6744CAC0E439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хема 4" descr=""/>
          <p:cNvPicPr/>
          <p:nvPr/>
        </p:nvPicPr>
        <p:blipFill>
          <a:blip r:embed="rId1"/>
          <a:stretch/>
        </p:blipFill>
        <p:spPr>
          <a:xfrm>
            <a:off x="360360" y="1427040"/>
            <a:ext cx="8618400" cy="4211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076840" y="5786280"/>
            <a:ext cx="51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ностью освобождены  от оплаты – 1520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50% - 190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Заголовок 1" descr=""/>
          <p:cNvPicPr/>
          <p:nvPr/>
        </p:nvPicPr>
        <p:blipFill>
          <a:blip r:embed="rId2"/>
          <a:stretch/>
        </p:blipFill>
        <p:spPr>
          <a:xfrm>
            <a:off x="426960" y="49320"/>
            <a:ext cx="822960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1"/>
          <p:cNvSpPr/>
          <p:nvPr/>
        </p:nvSpPr>
        <p:spPr>
          <a:xfrm>
            <a:off x="2000160" y="6356520"/>
            <a:ext cx="478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C744-7DDC-4D35-9758-C506B7FAA1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71680" y="12258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ние единого информационного взаимодействия ДОУ с родителями воспитанников, органами управления и другими институтами детства, а также совершенствование воспитательно-образовательного процесса в детском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6" descr=""/>
          <p:cNvPicPr/>
          <p:nvPr/>
        </p:nvPicPr>
        <p:blipFill>
          <a:blip r:embed="rId1"/>
          <a:stretch/>
        </p:blipFill>
        <p:spPr>
          <a:xfrm>
            <a:off x="396720" y="1457280"/>
            <a:ext cx="8302680" cy="486432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1"/>
          <p:cNvSpPr/>
          <p:nvPr/>
        </p:nvSpPr>
        <p:spPr>
          <a:xfrm>
            <a:off x="684360" y="6356520"/>
            <a:ext cx="74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985D-91E2-47E9-809F-455711B34C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1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10FE-5EE8-4B02-8124-D03040E84EFC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0280" y="974880"/>
          <a:ext cx="7929360" cy="48463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1,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до 3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3 лет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6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заявл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р.з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ают сменить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необесп.мес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285840" y="165240"/>
            <a:ext cx="8175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FD12-C26F-452C-96C9-447EEA653C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9" descr="50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3190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9" name="Picture 30" descr="261"/>
          <p:cNvPicPr/>
          <p:nvPr/>
        </p:nvPicPr>
        <p:blipFill>
          <a:blip r:embed="rId2"/>
          <a:stretch/>
        </p:blipFill>
        <p:spPr>
          <a:xfrm>
            <a:off x="4572000" y="189000"/>
            <a:ext cx="4254480" cy="3168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0" name="Picture 31" descr="402"/>
          <p:cNvPicPr/>
          <p:nvPr/>
        </p:nvPicPr>
        <p:blipFill>
          <a:blip r:embed="rId3"/>
          <a:stretch/>
        </p:blipFill>
        <p:spPr>
          <a:xfrm>
            <a:off x="2195640" y="3068640"/>
            <a:ext cx="4464000" cy="3559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3-08-26T17:25:46Z</dcterms:modified>
  <cp:revision>86</cp:revision>
  <dc:subject/>
  <dc:title>Слайд 1</dc:title>
</cp:coreProperties>
</file>